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336ED00-CD83-4BE2-82D8-63FB9168DE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94363DB3-6309-4984-B626-BCEA44B36481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a team member is replaced, the new team member gets the incomplete tasks from the old team member’s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new team member re-estimates tasks based on personal historical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ider adding a buffer for a learning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team member enters their own schedule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ider impact on existing team ro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a team member is assigned to other work temporarily, or their resource allocation changes, update that team member’s schedule plan.  If possible, load bala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5C612DC-4D2E-44B9-BD35-678A38D551C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 updates makes everybody nervou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rs anticipate schedule slipp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leaders question their ability to make commit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members start to doubt their effectivenes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eam must manage the plan dynamically and make every effort to hold to their commit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competently made, the original plan should have been based on historical size and task-hour da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out external changes, the overall plan should be accur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may be needed for normal estimating fluctuations at the detailed leve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planning is intended to preserve and improve the team’s schedu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rnal changes may result in overall plan changes as wel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57455EB-B487-4246-8D02-82409C9AC3C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ividuals can make updates to their plans without affecting other team member plans or the overall team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a team member must make changes to their plan and it affects other team member plans, the situation is an imbala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eam leader must work with the team to dynamically balance the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ch individual needs to look at their actual data and refine their detailed plans where necessa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lanning manager produces the consolidated team plan, based on revised detailed pl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eam follows the dynamic load-balancing procedure described in launch meeting 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ver how do you add an assembly? task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4CB6A2-0D22-4D07-B14B-96C6A42EF7E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66F0A6E-03A2-4DD4-AB96-93B7003F62C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EDF18AE-D0E7-44C2-8B3D-CECE7B6D5D4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E6641E9-5BED-4AE6-BDA5-459B2CE7A4B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sure that the team is not “managing the numbers” and making the data say what it is supposed to s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sure that tasks are being completed in sequence and dependencies are not being ignor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sure that the team is adhering to their quality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6B7A57D-9560-4F2A-A62E-FB167002915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664B8DA-98BC-44B6-B940-1B37E9CAFDC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53DD80D-7DF4-403F-9E3A-A595FC69C90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FBE7970-BADF-49C3-B6DD-B09B46FC221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9016954-576C-417F-8C5C-D1EB98E6B4F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cision to conduct a relaunch should be based on team nee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workload is imbalanc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lan is not guiding their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members are added to the tea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are external chan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is a significant and unrecoverable deviation from the original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pdating the plan takes time, and plan changes generally make it harder to track progress.  Theref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pdate individual detailed plans fir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needed, update the overall plan as a last res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uct relaunches only if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DEC5A99-C5F6-47E0-91D6-E2FC87CC4EE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2DC6C85-3410-4A75-A5D3-642562A6331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2B7107-B718-4BD1-A8BA-4263388DFA8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CC9A6A5-4304-4531-BE31-D004E7FF298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data are collected, individuals see how long tasks actually tak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the product evolves, individuals learn more about how they need to develop 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anizational structures chan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assignments and staffing profiles chan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dynamics evolve, including relationships and behavio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may finish tasks ahead of or behind the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may be done out of seque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ill be overlooked task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ill be occasional trends in poor estim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8BC01D8D-2C1A-4F5B-8A9E-740747DF728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A64A4B3E-FBD1-448A-8154-5AF4BF0405C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Maintaining the Baseline Pla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es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teams starts doing the work, they may find that the processes they are using need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changes may be needed i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steps are in the wrong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steps are not granular enoug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steps are too granula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needs additional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needs fewer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is not producing high 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think of other reasons process changes may b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404120" y="216000"/>
            <a:ext cx="13953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Composition Chang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projects execu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are added or removed from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may be assigned to other work temporari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 resource allocation to this project may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should these changes be reflected in a team’s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319560" y="4708440"/>
            <a:ext cx="16920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ommunicating Commitment Change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ever changes are made to the plan, the team must make sure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lan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y understand why the changes were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impact to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hange to the plan impacts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ltern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ffer choices and recommendations to stakehold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7" name="Picture 7" descr="\\ns01\install\Office\ClipMedia\disk2\FILES\PFILES\MSOFFICE\MEDIA\CNTCD1\ClipArt3\j0233251.wmf"/>
          <p:cNvPicPr/>
          <p:nvPr/>
        </p:nvPicPr>
        <p:blipFill>
          <a:blip r:embed="rId1"/>
          <a:stretch/>
        </p:blipFill>
        <p:spPr>
          <a:xfrm>
            <a:off x="3521160" y="4789440"/>
            <a:ext cx="1706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ynamic Workload Balanc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lways fluctuation.  To keep from getting badly imbalanced, the team rebalances the workload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 following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each individual’s progress and projected completion of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who is ahead and behi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lance the work where necess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basic plan was a good one, this is likely to keep the team on the original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balancing the Workloa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Rectangle 2051"/>
          <p:cNvSpPr/>
          <p:nvPr/>
        </p:nvSpPr>
        <p:spPr>
          <a:xfrm>
            <a:off x="197172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2" name="Object 2048" descr=""/>
          <p:cNvPicPr/>
          <p:nvPr/>
        </p:nvPicPr>
        <p:blipFill>
          <a:blip r:embed="rId1"/>
          <a:stretch/>
        </p:blipFill>
        <p:spPr>
          <a:xfrm>
            <a:off x="466560" y="1660680"/>
            <a:ext cx="7982280" cy="4590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059"/>
          <p:cNvSpPr/>
          <p:nvPr/>
        </p:nvSpPr>
        <p:spPr>
          <a:xfrm>
            <a:off x="1271520" y="57546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week 8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Team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progress can adequately be described using two indicators:  task hours and earned valu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ends in actual versus planned task hours show whether current trends in expended time are above or below the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ends in earned versus planned value show whether current trends in earned value are above or below the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trends in hours and earned value, the team can determine wheth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ject is on tr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ject will finish as planned, assuming that the current pace is maintain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uses of plan deviation can be identified and adjustments to the project can be made to address these cau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81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Team Data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828720" y="1569960"/>
            <a:ext cx="7902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912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Team Data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9" descr=""/>
          <p:cNvPicPr/>
          <p:nvPr/>
        </p:nvPicPr>
        <p:blipFill>
          <a:blip r:embed="rId2"/>
          <a:stretch/>
        </p:blipFill>
        <p:spPr>
          <a:xfrm>
            <a:off x="628560" y="1609560"/>
            <a:ext cx="789156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sible Causes of Plan Devi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568520"/>
            <a:ext cx="7575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estimates used to produce the plan may be inaccura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t based on historical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sed poor size estimate and/or productivity rat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am members may not be getting the task time as plann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frequent interrup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planned 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may not have adequate or appropriate staff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am members may be doing superficial work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dividuals may be doing the work wrong because they misunderstand the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may be struggling with teamwork issu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the Schedu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earned value is on or above planned value, the team is making their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long as the actual hours expended are close to the plan, the team is right on tra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ngs to consi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ctual hours are not as planned, the team has an estimating problem that they need to address before they make anothe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ctual hours are as planned or lower, the team may be doing a superficial job on important quality activ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utline: Running the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496520"/>
            <a:ext cx="81262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SP roles:  getting roles to be successful on a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ing and reporting:  collecting data, the weekly team meeting, reporting to managem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the baseline plan:  keeping the team commitment, evaluating status, adjusting plans when necess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a quality focus:  responsibilities for quality, TSP quality metho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:  areas where the coach helps TSP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 leader:  handling problems with a TSP team lea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st-launch Coaching:  post-launch coaching strategy and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AutoShape 2052"/>
          <p:cNvSpPr/>
          <p:nvPr/>
        </p:nvSpPr>
        <p:spPr>
          <a:xfrm>
            <a:off x="341280" y="2876400"/>
            <a:ext cx="326880" cy="287640"/>
          </a:xfrm>
          <a:prstGeom prst="rightArrow">
            <a:avLst>
              <a:gd name="adj1" fmla="val 50000"/>
              <a:gd name="adj2" fmla="val 28411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alling Behin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486080"/>
            <a:ext cx="7637400" cy="47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When earned value is below planned value, the team is at risk of not making their schedule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The team seems to have underestimated the job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The team may not be getting their planned task hours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Things to consider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Figure out how to get back on schedule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Work with the team to do a major plan reassessment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Don’t blow the whistle prematurely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Review the situation with management as soon as you have more details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Compare earned value status with actual hour status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If the team was fully staffed and met the planned task hours, would earned value be above or below plan?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Use the relative comparison between earned value and actual hours as a way to explain plan deviations and secure support to get back on track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Recognize that early in a project, there can be wide fluctuations in actual versus planned measures. 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en Things Look Too Gre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the team to make sure that the situation is real and not just a temporary vari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suggestions for looking deeper into the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at the team is not “managing the numbers” and making the data say what it is supposed to s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at tasks are being completed in sequence and dependencies are not being igno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at the team is adhering to their quality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ach management with the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y want the team to accelerate the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y want to add functionalit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y want to reassign staff to other proj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the Overall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dynamic changes are made to individual plans, the team determines if the new consolidated plan is consistent with the original baseline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re tasks in the current phase still consisten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re tasks for future phases consisten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ve the individual estimates affected the team’s commitments or scheduled dat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team is not reasonably close to maintaining the baseline plan, the team need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rpret their data, including actual versus planned hours and earned versus planned value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adjustments to their work and their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ossibly involve management and renegotiate commit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ossibly re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ailed plans are accurate only for brief periods of time.  Therefore, it is essential to periodically rebalanc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ous planning hel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to be more effici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to better manage their worklo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sis of data gives insight into team progress and suggests potential overall plan corrections.  Look 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ersus plan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versus planned task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st a TSP team in maintaining their baselin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 with maintaining a baseline plan and apply hints for handling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ynamic workload balanc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preting team plan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ing the overal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 Dynam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you can’t plan accurately, plan ofte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- Watts Humphre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tailed plans are accurate only for brief periods of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eam members work, they learn more about the job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work among individuals becomes unbalanc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s and teams are dynami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plans become less accurate, they are less useful in guiding the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need detailed plans to make realistic commitments and to coordinate and track their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equently, teams must dynamically maintain their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do Plans Change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s need to be continuously updated to reflect reality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is better underst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parameters change (effort hours, productivity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is better underst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w team members join the team, or team members leave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become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think of other reasons that cause plans to chang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385040" y="142920"/>
            <a:ext cx="149400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etter Understanding of a Project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team better understand a project, they may fi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smaller than anticipa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than anticipa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missed tasks that are necessary to complete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skill set they need before they can complete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requires a commercial off the shelf piece of softw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should they handle each of these situa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618000" y="5446800"/>
            <a:ext cx="13143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quirements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keholders may request changes such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new fea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earlier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s in prior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fferent order of comple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unplanned demo or one-off rele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important to handle each of these in a rational mann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ey understand the requ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with the impact and the choices the stakeholder h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ose impacts are accepted, they should update their plan to reflect the current re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5" name="Picture 4" descr="\\ns01\install\Office\ClipMedia\disk2\FILES\PFILES\MSOFFICE\MEDIA\CNTCD1\ClipArt1\j0078702.wmf"/>
          <p:cNvPicPr/>
          <p:nvPr/>
        </p:nvPicPr>
        <p:blipFill>
          <a:blip r:embed="rId1"/>
          <a:stretch/>
        </p:blipFill>
        <p:spPr>
          <a:xfrm>
            <a:off x="7545240" y="147600"/>
            <a:ext cx="127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Parameters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 team makes its initial plan, they used some planning parame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distribution amongs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and removal r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avail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or individuals discover these parameters were incorrect, it is important to re-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332320" y="4443480"/>
            <a:ext cx="25257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35Z</dcterms:modified>
  <cp:revision>206</cp:revision>
  <dc:subject/>
  <dc:title>No Slide Title</dc:title>
</cp:coreProperties>
</file>